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1717-644E-4461-9DDE-B71149179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8166-2DAC-49F5-BC1E-58321394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875-FDB7-40D1-A0CF-1FC4CD05FC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E8E5-81AC-41F4-8560-75577CFFB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1DF-42B0-44E6-A385-3FAFA2F3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6F2-A113-4845-9767-52CA3BA7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194-2C3C-432D-83D5-168F17D9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3B2-A8F7-44CC-86BF-35EA4717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BFE-EAC3-4E39-9E54-4752CC4C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513-1AF1-4018-9557-5198C5AD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9F9-60B6-4CFC-9658-9733275E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129-F250-4DF3-86AA-366C647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EFF-7312-4B65-B5DF-14EECA2D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201-5779-454B-B65F-2AC94C5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EBE-AD56-419A-8021-2B18DE5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FDA-C384-456D-8C95-693B1BFD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A0B5-1EB7-4F3B-A1F0-FBE690DBB7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EED6-52F2-4B45-848A-63A712D10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1617840"/>
            <a:ext cx="3886200" cy="3308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668600"/>
            <a:ext cx="3733560" cy="317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92920" y="3107160"/>
            <a:ext cx="6909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8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75280" y="26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3328920" cy="528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169280" y="1726920"/>
            <a:ext cx="514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B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52480" y="117648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3520" y="1914120"/>
            <a:ext cx="65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D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82640" y="609480"/>
            <a:ext cx="410688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11960" y="2504520"/>
            <a:ext cx="57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S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1106640"/>
            <a:ext cx="6434280" cy="411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47920" y="22860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1760" y="1827720"/>
            <a:ext cx="7238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H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0989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008000"/>
            <a:ext cx="6553440" cy="396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64280" y="1883160"/>
            <a:ext cx="7872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R 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3600" y="380880"/>
            <a:ext cx="457992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6880" y="1980720"/>
            <a:ext cx="731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red 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960480"/>
            <a:ext cx="6019920" cy="526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48480" y="1647360"/>
            <a:ext cx="840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yellow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474920"/>
            <a:ext cx="5943600" cy="423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68840" y="2057040"/>
            <a:ext cx="71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blue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4844880" cy="60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45160" y="2133360"/>
            <a:ext cx="709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black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1784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092680" y="2711160"/>
            <a:ext cx="49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81080" y="898560"/>
            <a:ext cx="5410440" cy="485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4800" y="2514240"/>
            <a:ext cx="715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green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14600" y="700200"/>
            <a:ext cx="4800600" cy="477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066320" y="2666160"/>
            <a:ext cx="72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circ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81840" cy="50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88160" y="2409120"/>
            <a:ext cx="76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squar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105520" cy="44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30880" y="2332800"/>
            <a:ext cx="808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triang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21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2240" y="3047040"/>
            <a:ext cx="78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rectangle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49680" y="838080"/>
            <a:ext cx="395892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62120" y="30481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841320" y="2665800"/>
            <a:ext cx="76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diamond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244840" cy="557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140840" y="1980360"/>
            <a:ext cx="650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dog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67172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12960" y="3082320"/>
            <a:ext cx="673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bear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736560"/>
            <a:ext cx="6477120" cy="532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71800" y="2958840"/>
            <a:ext cx="739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n elephant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004000" cy="222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78000" y="308232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ant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3760" y="267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70880" y="2284920"/>
            <a:ext cx="6537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996840"/>
            <a:ext cx="7162920" cy="507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84000" y="2513880"/>
            <a:ext cx="740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wha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384640" cy="164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581280"/>
            <a:ext cx="238428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2307960" cy="159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267080" y="923760"/>
            <a:ext cx="2667240" cy="184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066680" y="914400"/>
            <a:ext cx="266724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28800" y="202356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5 ?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666880" cy="20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743200" cy="2090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2286000" cy="1743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352680" y="2743200"/>
            <a:ext cx="2667240" cy="203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33520" y="380880"/>
            <a:ext cx="2666880" cy="203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352680" y="380880"/>
            <a:ext cx="2743200" cy="209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172200" y="533520"/>
            <a:ext cx="2633760" cy="200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40640" y="2726280"/>
            <a:ext cx="6909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7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09-10-05T21:52:44Z</dcterms:modified>
  <cp:revision>74</cp:revision>
  <dc:subject/>
  <dc:title>Blank Jeopardy</dc:title>
</cp:coreProperties>
</file>